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DE7-B610-4EA1-8D9B-B79DCE0A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2E7-3B76-4239-99DE-5FC8EE0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04A-3A04-4483-976D-971A98A1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FC8-5B06-4821-ABCD-54C4C30B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194-527F-4AD0-90AC-671B7D1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7B6-524D-4647-8DF2-A4E985B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9B2-26EF-4EEE-88FC-F9AFFB9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9BE-C698-4F34-AB22-5C0BF5E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286-D5CB-43AD-BD4B-AFC5166D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E6B-F295-41C0-BECE-35F9FE5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75A-85B0-4D9F-B334-74F7CE0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9A4-8FD0-4853-92EF-90E567F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E285-0D1A-4680-97EB-1E0A139D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d. 9, rm. 2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ollowing lesson into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eboo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ALL the work in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eboo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is work will be checked on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mintues before class is over, you will be tak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2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* IF I GET A BAD REPORT FROM THE SUBSTITUTE TEACHER, THERE WILL BE CONSEQUENCES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40" y="15192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2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 23 de febrer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QUIZ 2: CAPITULO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2 Spanish sentences about each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t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asque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808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and indicate what SPORT the sentence is referring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ortero guarda la port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ibel dribla el balón y enc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úl y María juegan un partido de dobles con Gloria y To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uisa juega la posición de jardinera en el equipo de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equipo tiene cinco jug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rge y Olivia juegan un partido de individ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Toros son un equipo de once jug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lson batea un jonrón y su equipo g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2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OS DEPORTES POPULARES EN ESTADOS U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3352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6-02-22T18:45:57Z</cp:lastPrinted>
  <dcterms:modified xsi:type="dcterms:W3CDTF">2016-02-23T15:22:04Z</dcterms:modified>
  <cp:revision>44</cp:revision>
  <dc:subject/>
  <dc:title>Me llamo ___________  Clase 7 IM La fecha es el 18 de noviembre del 2010</dc:title>
</cp:coreProperties>
</file>